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735-83A9-4B07-B3B3-F13AFDFA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51EF-A8CB-4051-B0AF-D90BB4551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FB3-F93D-4E74-B5DD-5585544B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5BA-FF3A-4EAF-A5A3-FAD4AED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919-C776-4B56-B4F7-E412EA25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EBF-107A-431F-80BE-F790FCF6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6E4-90A6-4C86-AFBA-AAC816E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77C-C856-475C-9EAB-225C8231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93B-1F99-4207-95B8-CCEA9569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054-2438-41BF-ADB5-1F5DC7DC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ABB-27AA-40E5-8C73-BD83C769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516-C14B-4E27-BE40-68BC771D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7EB-CD99-4E86-BECA-DE1AEFBE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4D0-48D0-4B66-89D6-C1FF9A6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D61D-D402-4478-93E2-3469FC315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36828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             232 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l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i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1055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Mar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a ir a en la tarde, Melody. Si alguien quiere a ir a con nosotros, pueden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r a Baskin Robbins en Floral Park, Nueva York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elod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Sharlene! Yo voy voy contigo. ¿Cuando vamos a i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Decembre 7, de 2012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s!…. Quien quiere comprar helado conmigo 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2hour ago.     Decembre 7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Okay…Gracias! Gabriela y yo vamos en 3 horas porqué estamos lejos de Floral P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1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2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Buenas Noches amigas! ¡Ya voy a dormir!!!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480966_10151124980887477_1105329441_n.jpg"/>
          <p:cNvPicPr/>
          <p:nvPr/>
        </p:nvPicPr>
        <p:blipFill>
          <a:blip r:embed="rId3"/>
          <a:stretch/>
        </p:blipFill>
        <p:spPr>
          <a:xfrm>
            <a:off x="152280" y="838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480966_10151124980887477_1105329441_n.jpg"/>
          <p:cNvPicPr/>
          <p:nvPr/>
        </p:nvPicPr>
        <p:blipFill>
          <a:blip r:embed="rId4"/>
          <a:stretch/>
        </p:blipFill>
        <p:spPr>
          <a:xfrm>
            <a:off x="2133720" y="2438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70100_128306570660437_2020124721_n.jpg"/>
          <p:cNvPicPr/>
          <p:nvPr/>
        </p:nvPicPr>
        <p:blipFill>
          <a:blip r:embed="rId5"/>
          <a:stretch/>
        </p:blipFill>
        <p:spPr>
          <a:xfrm>
            <a:off x="2133720" y="31240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2344788_f260.jpg"/>
          <p:cNvPicPr/>
          <p:nvPr/>
        </p:nvPicPr>
        <p:blipFill>
          <a:blip r:embed="rId6"/>
          <a:stretch/>
        </p:blipFill>
        <p:spPr>
          <a:xfrm>
            <a:off x="2057400" y="3733920"/>
            <a:ext cx="609480" cy="63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4" descr="2344788_f260.jpg"/>
          <p:cNvPicPr/>
          <p:nvPr/>
        </p:nvPicPr>
        <p:blipFill>
          <a:blip r:embed="rId7"/>
          <a:stretch/>
        </p:blipFill>
        <p:spPr>
          <a:xfrm>
            <a:off x="152280" y="4495680"/>
            <a:ext cx="609840" cy="63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270100_128306570660437_2020124721_n.jpg"/>
          <p:cNvPicPr/>
          <p:nvPr/>
        </p:nvPicPr>
        <p:blipFill>
          <a:blip r:embed="rId8"/>
          <a:stretch/>
        </p:blipFill>
        <p:spPr>
          <a:xfrm>
            <a:off x="762120" y="4495680"/>
            <a:ext cx="533160" cy="584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558763_451286248263457_1770639403_n.jpg"/>
          <p:cNvPicPr/>
          <p:nvPr/>
        </p:nvPicPr>
        <p:blipFill>
          <a:blip r:embed="rId9"/>
          <a:stretch/>
        </p:blipFill>
        <p:spPr>
          <a:xfrm>
            <a:off x="1373040" y="4572000"/>
            <a:ext cx="53208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406796_224187064380476_1486548717_n.jpg"/>
          <p:cNvPicPr/>
          <p:nvPr/>
        </p:nvPicPr>
        <p:blipFill>
          <a:blip r:embed="rId10"/>
          <a:stretch/>
        </p:blipFill>
        <p:spPr>
          <a:xfrm>
            <a:off x="228600" y="5562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523647_271748989573753_1942422869_n.jpg"/>
          <p:cNvPicPr/>
          <p:nvPr/>
        </p:nvPicPr>
        <p:blipFill>
          <a:blip r:embed="rId11"/>
          <a:stretch/>
        </p:blipFill>
        <p:spPr>
          <a:xfrm>
            <a:off x="990720" y="5486400"/>
            <a:ext cx="812520" cy="609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053720" y="6095880"/>
            <a:ext cx="64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558763_451286248263457_1770639403_n.jpg"/>
          <p:cNvPicPr/>
          <p:nvPr/>
        </p:nvPicPr>
        <p:blipFill>
          <a:blip r:embed="rId12"/>
          <a:stretch/>
        </p:blipFill>
        <p:spPr>
          <a:xfrm>
            <a:off x="2133720" y="4419720"/>
            <a:ext cx="53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34:28Z</dcterms:created>
  <dc:creator>FriscoISD</dc:creator>
  <dc:description/>
  <dc:language>en-US</dc:language>
  <cp:lastModifiedBy>NYCDOE</cp:lastModifiedBy>
  <dcterms:modified xsi:type="dcterms:W3CDTF">2012-12-07T19:19:41Z</dcterms:modified>
  <cp:revision>108</cp:revision>
  <dc:subject/>
  <dc:title>Profile</dc:title>
</cp:coreProperties>
</file>